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D56-C6D0-426A-A64D-20EA67E5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B33-CD24-4086-983C-D8E51AAF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C0B-83F8-4839-986E-5C83D5AB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3EC-CECF-42C3-8EF9-AD26D6E6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4F03-6315-4574-894D-D9B56E8F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D9AA-49E7-4DAF-B9D3-A4B2B94F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5473-4E74-4A0B-87EB-70EB3016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E41D-0BE2-4C8C-8067-D561FEE7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EEB3-70DE-4C9F-B1AD-7E189F19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C96F-91D2-45F5-A0AC-2E27B05E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899F-B642-4803-BAD2-8E75F38B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BE2-2700-4AFF-B899-CFEE1250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3F66-E015-4D4A-A646-6C95300E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A9B3-8D84-412A-A072-71C18A41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28D5-0EAA-4DC7-A135-524DC883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4656-BB00-497A-893B-78CD691E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2B98-34F6-48DD-8DB2-B303BCA6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67B-D702-4FD7-A435-A13DD24A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5A8-3B00-4AA6-979B-60D3DDEF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65D-5D06-4FDB-B507-65459676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405-C02F-4D99-90EC-4BA3BA42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37E-C069-4ED4-A238-1FE8A129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8E3-CC23-4CEC-A1B4-97A3FA60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331-BFA8-4811-BF4A-194134C1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8AC0-6C55-4015-8CF6-ED4CBC1B1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C067-D0E3-4C0E-9104-CE88DFC1D39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Фото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ња Зечевић Лукови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ндикације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а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Р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сттрауматск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тања:повред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еких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ки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сл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ајмање 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48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часо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иалгиј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еуралгије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лезије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МН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анзглоб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реуматиза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егенератив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реуматиза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фурункулоз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гљивична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вод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С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Г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Ф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ракције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ТХ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болов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сл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кстракциј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уба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фронтал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ксилар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инуситис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Контраиндикације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а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акутн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фебрилн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та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акутн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апаље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ож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глобо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клоност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рварењ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лиг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оцес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клузивн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артеријск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боље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анестезија</a:t>
            </a:r>
            <a:r>
              <a:rPr b="0" lang="en-GB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коже</a:t>
            </a:r>
            <a:r>
              <a:rPr b="0" lang="en-GB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термичке</a:t>
            </a:r>
            <a:r>
              <a:rPr b="0" lang="en-GB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дражи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екомпензација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италних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ргана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екцем</a:t>
            </a:r>
            <a:r>
              <a:rPr b="0" lang="sr-Latn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дерматитис</a:t>
            </a:r>
            <a:r>
              <a:rPr b="0" lang="sr-Latn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Инфрацрвена</a:t>
            </a:r>
            <a:r>
              <a:rPr b="0" lang="en-U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фотограф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т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ц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мер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казу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вен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сте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териј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в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д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и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јагности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н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ркул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леч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жлезд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ркул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авидите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тпартал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н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ркул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т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ертензије</a:t>
            </a: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Термограф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мограф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графск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гистров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мператур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могр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аз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ркула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мотач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лика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теријск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в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то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мовиз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тк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еме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ик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трибу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мператур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ћ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рши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ХЕЛИОТЕРАПИЈА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к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ц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ржавај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јоносфер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X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зонск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п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г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пустит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штет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60%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3-5%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Осетљивост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н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унчеве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зра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алн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тљив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уд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ђ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лексор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а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кстремите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дивидуал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тљивос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ч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и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зраст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ги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еди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бино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фекат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ловањ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ун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бљи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здушног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ој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лажност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здух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ш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б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дишњег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б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морск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си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лачност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гађеност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здух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Светлосни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надража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"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тлосн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ража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( Hol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w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c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ста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к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ул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д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тичким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тевим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нос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зенцефал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м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кундарн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овањ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офиз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ачан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лучивањ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диц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рект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ј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говоран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шт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нус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гетатив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ункц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изм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497560" cy="54100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1771200" y="328680"/>
            <a:ext cx="54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Шем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унчањ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Rollie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Индикације</a:t>
            </a:r>
            <a:r>
              <a:rPr b="1" lang="sr-Latn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за</a:t>
            </a:r>
            <a:r>
              <a:rPr b="1" lang="sr-Latn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хелиотерапију</a:t>
            </a:r>
            <a:r>
              <a:rPr b="1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з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иферног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торног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уро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генератив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уматск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ољењ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псориасис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вулгарис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екцем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рахитис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охром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емиј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екц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спираторних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тев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конвалесценциј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БЦ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тију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гетативн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емећај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333399"/>
                </a:solidFill>
                <a:latin typeface="Times New Roman YU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333399"/>
                </a:solidFill>
                <a:latin typeface="France YU"/>
                <a:ea typeface="Times New Roman"/>
              </a:rPr>
              <a:t>Фототерапија</a:t>
            </a:r>
            <a:r>
              <a:rPr b="1" lang="sr-Latn-CS" sz="5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333399"/>
                </a:solidFill>
                <a:latin typeface="Arial"/>
                <a:ea typeface="Times New Roman"/>
              </a:rPr>
              <a:t>подела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елиотерап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ромотерап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ра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В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ра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АС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иоптрон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“ЗЕПТЕР”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ам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Контраиндикације</a:t>
            </a:r>
            <a:r>
              <a:rPr b="1" lang="sr-Latn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а</a:t>
            </a:r>
            <a:r>
              <a:rPr b="1" lang="sr-Latn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хелиотерапију</a:t>
            </a:r>
            <a:r>
              <a:rPr b="1" lang="sr-Latn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            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БЦ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ућ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компензован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ници(срчан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ућни бубрежни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брил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ективна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лонос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варењ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лиг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оље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В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61760"/>
            <a:ext cx="779292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Хромотерапија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римен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ењу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росторија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сихијатрији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...</a:t>
            </a:r>
            <a:r>
              <a:rPr b="0" lang="en-US" sz="2800" spc="-1" strike="noStrike">
                <a:solidFill>
                  <a:srgbClr val="1c1c1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лав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обезбојавање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новорођенчади са жутицом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жут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стимулативно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ојачав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катаболизам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зелен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умирујуће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ојачав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анаболизам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црвен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наранџаст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надражајне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е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љубичаст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успорав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ритам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дисања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али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родубљује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дисање и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овећав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вентилациону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способност</a:t>
            </a:r>
            <a:r>
              <a:rPr b="1" lang="en-GB" sz="2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Calibri"/>
              </a:rPr>
              <a:t>БИОПТРОН</a:t>
            </a:r>
            <a:r>
              <a:rPr b="1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Calibri"/>
              </a:rPr>
              <a:t>ПОЛАРИЗОВАНА</a:t>
            </a:r>
            <a:r>
              <a:rPr b="1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333399"/>
                </a:solidFill>
                <a:latin typeface="Calibri"/>
              </a:rPr>
              <a:t>СВЕТЛОС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линеарн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оларизован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олихроматск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ветлост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400-2000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н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тј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це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видљив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пектар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Ц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де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Ц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Б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Добиј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реламање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коз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осебн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“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БРУСТЕР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”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вишеслојн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огледал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ропуштање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кроз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исте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фот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филтер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ЗЕПТЕР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уштин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унос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додатн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енергиј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кој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тимулиш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ћелијск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метаболиза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РАЗЛИКА</a:t>
            </a:r>
            <a:r>
              <a:rPr b="0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ИЗМЕЂУ</a:t>
            </a:r>
            <a:r>
              <a:rPr b="0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ОБИЧНЕ</a:t>
            </a:r>
            <a:r>
              <a:rPr b="0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И</a:t>
            </a:r>
            <a:r>
              <a:rPr b="0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ПОЛАРИЗОВАНЕ</a:t>
            </a:r>
            <a:r>
              <a:rPr b="0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СВЕТЛОСТ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ветлосн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зрац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ростиру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аралелни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равни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талас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нису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инхронизован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мају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различиту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фреквенц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енергиј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мал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ал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констант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3399"/>
                </a:solidFill>
                <a:latin typeface="Calibri"/>
              </a:rPr>
              <a:t>ФИЗИОЛОШКА</a:t>
            </a:r>
            <a:r>
              <a:rPr b="0" lang="sr-Latn-CS" sz="3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Calibri"/>
              </a:rPr>
              <a:t>ДЕЈСТВА БИОПТРОН</a:t>
            </a:r>
            <a:r>
              <a:rPr b="0" lang="sr-Latn-CS" sz="3200" spc="-1" strike="noStrike">
                <a:solidFill>
                  <a:srgbClr val="333399"/>
                </a:solidFill>
                <a:latin typeface="Calibri"/>
              </a:rPr>
              <a:t> </a:t>
            </a:r>
            <a:br>
              <a:rPr sz="3200"/>
            </a:br>
            <a:r>
              <a:rPr b="0" lang="sr-CS" sz="3200" spc="-1" strike="noStrike">
                <a:solidFill>
                  <a:srgbClr val="333399"/>
                </a:solidFill>
                <a:latin typeface="Calibri"/>
              </a:rPr>
              <a:t>СВЕТЛО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ормализуј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ембранск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тенција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н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ктивност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ћел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ембра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ТП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дукциј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дстич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егулаторн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цес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дстич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агоцитозу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икроциркулациј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идратацију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сигенацију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ћел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ктивир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акрофаг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дстич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дукцију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актор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с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КЛИНИЧКА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ДЕЈСТВА БИОПТРОН СВЕТЛОСТИ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оуспешуј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зарастањ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ран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торпидних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улцер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антиинфламатор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аналгетс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ДОЗИРАЊЕ  БИОПТРОН СВЕТЛОСТИ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стојањ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10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ц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гао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90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тепе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рем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2-8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и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1-2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у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нев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едуслов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чис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ж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мера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с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преј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терилн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оден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створ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2 )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езинфикуј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идрир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сигениш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ж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сл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ерап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ИНДИКАЦИЈЕ ЗА ПРИМЕНУ “</a:t>
            </a:r>
            <a:r>
              <a:rPr b="0" lang="sr-CS" sz="3600" spc="-1" strike="noStrike">
                <a:solidFill>
                  <a:srgbClr val="333399"/>
                </a:solidFill>
                <a:latin typeface="Calibri"/>
              </a:rPr>
              <a:t>БИОПТРОН” СВЕТЛОСТИ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ране</a:t>
            </a:r>
            <a:r>
              <a:rPr b="0" lang="sr-Latn-CS" sz="2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улкус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опекоти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декуби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ак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дермати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целул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постоперативни</a:t>
            </a:r>
            <a:r>
              <a:rPr b="0" lang="sr-Latn-CS" sz="2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ожиљц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гад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радавица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рениран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инузити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ртроз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ртри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Ц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ибромиалг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портск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ре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85440"/>
            <a:ext cx="7792920" cy="107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УЛТРАВИОЛЕТНИ</a:t>
            </a:r>
            <a:r>
              <a:rPr b="1" lang="sr-Latn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РАЦИ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рив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80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893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струисан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в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штачк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вор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варц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мп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варц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ламп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66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уалистичк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рирод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ветл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908920" y="2017800"/>
          <a:ext cx="46080" cy="411480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Подела</a:t>
            </a:r>
            <a:r>
              <a:rPr b="0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УВ</a:t>
            </a:r>
            <a:r>
              <a:rPr b="0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рака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39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лтравиолет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алас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ужи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380 - 315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739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лтравиолет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Б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ВБ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алас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ужи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315 - 28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739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лтравиолет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Ц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ВЦ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алас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ужи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280 - 13,6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6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6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Локални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фекти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УВ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азвој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рите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актерицидн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фека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дукциј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витамин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ктивациј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нзи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61704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Регионалн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осетљивост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н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УВ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зраке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(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етостепен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кал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2608200" y="1981080"/>
            <a:ext cx="39276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озирање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УВ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иодоз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га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астојање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рој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Биод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0" y="6171840"/>
          <a:ext cx="76320" cy="304920"/>
        </p:xfrm>
        <a:graphic>
          <a:graphicData uri="http://schemas.openxmlformats.org/drawingml/2006/table"/>
        </a:graphic>
      </p:graphicFrame>
      <p:grpSp>
        <p:nvGrpSpPr>
          <p:cNvPr id="221" name="Group 4"/>
          <p:cNvGrpSpPr/>
          <p:nvPr/>
        </p:nvGrpSpPr>
        <p:grpSpPr>
          <a:xfrm>
            <a:off x="1066680" y="2209680"/>
            <a:ext cx="6324120" cy="3428640"/>
            <a:chOff x="1066680" y="2209680"/>
            <a:chExt cx="6324120" cy="3428640"/>
          </a:xfrm>
        </p:grpSpPr>
        <p:sp>
          <p:nvSpPr>
            <p:cNvPr id="222" name="Rectangle 5"/>
            <p:cNvSpPr/>
            <p:nvPr/>
          </p:nvSpPr>
          <p:spPr>
            <a:xfrm>
              <a:off x="1163520" y="2209680"/>
              <a:ext cx="143568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Stepen eritem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5934960" y="2209680"/>
              <a:ext cx="126252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Biodoza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6128280" y="2718000"/>
              <a:ext cx="12625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u min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1163520" y="3134880"/>
              <a:ext cx="14356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Sl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2599200" y="313488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3517560" y="313488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4435920" y="3134880"/>
              <a:ext cx="91872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354640" y="3134880"/>
              <a:ext cx="12621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1163520" y="3552480"/>
              <a:ext cx="14356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J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Rectangle 14"/>
            <p:cNvSpPr/>
            <p:nvPr/>
          </p:nvSpPr>
          <p:spPr>
            <a:xfrm>
              <a:off x="2599200" y="355248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3517560" y="355248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16"/>
            <p:cNvSpPr/>
            <p:nvPr/>
          </p:nvSpPr>
          <p:spPr>
            <a:xfrm>
              <a:off x="4435920" y="3552480"/>
              <a:ext cx="9187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5354640" y="3552480"/>
              <a:ext cx="1262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0,5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18"/>
            <p:cNvSpPr/>
            <p:nvPr/>
          </p:nvSpPr>
          <p:spPr>
            <a:xfrm>
              <a:off x="1163520" y="3969720"/>
              <a:ext cx="14356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Sl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>
              <a:off x="2599200" y="396972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20"/>
            <p:cNvSpPr/>
            <p:nvPr/>
          </p:nvSpPr>
          <p:spPr>
            <a:xfrm>
              <a:off x="3517560" y="396972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21"/>
            <p:cNvSpPr/>
            <p:nvPr/>
          </p:nvSpPr>
          <p:spPr>
            <a:xfrm>
              <a:off x="4435920" y="3969720"/>
              <a:ext cx="9187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22"/>
            <p:cNvSpPr/>
            <p:nvPr/>
          </p:nvSpPr>
          <p:spPr>
            <a:xfrm>
              <a:off x="5354640" y="3969720"/>
              <a:ext cx="1262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23"/>
            <p:cNvSpPr/>
            <p:nvPr/>
          </p:nvSpPr>
          <p:spPr>
            <a:xfrm>
              <a:off x="1163520" y="4386600"/>
              <a:ext cx="14356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J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24"/>
            <p:cNvSpPr/>
            <p:nvPr/>
          </p:nvSpPr>
          <p:spPr>
            <a:xfrm>
              <a:off x="2599200" y="438660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25"/>
            <p:cNvSpPr/>
            <p:nvPr/>
          </p:nvSpPr>
          <p:spPr>
            <a:xfrm>
              <a:off x="3517560" y="438660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26"/>
            <p:cNvSpPr/>
            <p:nvPr/>
          </p:nvSpPr>
          <p:spPr>
            <a:xfrm>
              <a:off x="4435920" y="4386600"/>
              <a:ext cx="91872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27"/>
            <p:cNvSpPr/>
            <p:nvPr/>
          </p:nvSpPr>
          <p:spPr>
            <a:xfrm>
              <a:off x="5354640" y="4386600"/>
              <a:ext cx="12621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1,5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Rectangle 28"/>
            <p:cNvSpPr/>
            <p:nvPr/>
          </p:nvSpPr>
          <p:spPr>
            <a:xfrm>
              <a:off x="1163520" y="4804200"/>
              <a:ext cx="14356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Sl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29"/>
            <p:cNvSpPr/>
            <p:nvPr/>
          </p:nvSpPr>
          <p:spPr>
            <a:xfrm>
              <a:off x="2599200" y="480420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30"/>
            <p:cNvSpPr/>
            <p:nvPr/>
          </p:nvSpPr>
          <p:spPr>
            <a:xfrm>
              <a:off x="3517560" y="480420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31"/>
            <p:cNvSpPr/>
            <p:nvPr/>
          </p:nvSpPr>
          <p:spPr>
            <a:xfrm>
              <a:off x="4435920" y="4804200"/>
              <a:ext cx="9187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7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87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32"/>
            <p:cNvSpPr/>
            <p:nvPr/>
          </p:nvSpPr>
          <p:spPr>
            <a:xfrm>
              <a:off x="5354640" y="4804200"/>
              <a:ext cx="1262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33"/>
            <p:cNvSpPr/>
            <p:nvPr/>
          </p:nvSpPr>
          <p:spPr>
            <a:xfrm>
              <a:off x="1163520" y="5221080"/>
              <a:ext cx="14356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J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34"/>
            <p:cNvSpPr/>
            <p:nvPr/>
          </p:nvSpPr>
          <p:spPr>
            <a:xfrm>
              <a:off x="2599200" y="522108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35"/>
            <p:cNvSpPr/>
            <p:nvPr/>
          </p:nvSpPr>
          <p:spPr>
            <a:xfrm>
              <a:off x="3517560" y="522108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36"/>
            <p:cNvSpPr/>
            <p:nvPr/>
          </p:nvSpPr>
          <p:spPr>
            <a:xfrm>
              <a:off x="4435920" y="5221080"/>
              <a:ext cx="91872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63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563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37"/>
            <p:cNvSpPr/>
            <p:nvPr/>
          </p:nvSpPr>
          <p:spPr>
            <a:xfrm>
              <a:off x="5354640" y="5221080"/>
              <a:ext cx="12621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3,5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55" name="Group 38"/>
            <p:cNvGrpSpPr/>
            <p:nvPr/>
          </p:nvGrpSpPr>
          <p:grpSpPr>
            <a:xfrm>
              <a:off x="2502360" y="2209680"/>
              <a:ext cx="3335760" cy="508320"/>
              <a:chOff x="2502360" y="2209680"/>
              <a:chExt cx="3335760" cy="508320"/>
            </a:xfrm>
          </p:grpSpPr>
          <p:sp>
            <p:nvSpPr>
              <p:cNvPr id="256" name="Rectangle 39"/>
              <p:cNvSpPr/>
              <p:nvPr/>
            </p:nvSpPr>
            <p:spPr>
              <a:xfrm>
                <a:off x="2599200" y="2209680"/>
                <a:ext cx="3141720" cy="50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France YU"/>
                    <a:ea typeface="Times New Roman"/>
                  </a:rPr>
                  <a:t>Vreme zračenja u min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40"/>
              <p:cNvSpPr/>
              <p:nvPr/>
            </p:nvSpPr>
            <p:spPr>
              <a:xfrm>
                <a:off x="2502360" y="2209680"/>
                <a:ext cx="3335760" cy="508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8" name="Group 41"/>
            <p:cNvGrpSpPr/>
            <p:nvPr/>
          </p:nvGrpSpPr>
          <p:grpSpPr>
            <a:xfrm>
              <a:off x="1066680" y="2718000"/>
              <a:ext cx="1629360" cy="416880"/>
              <a:chOff x="1066680" y="2718000"/>
              <a:chExt cx="1629360" cy="416880"/>
            </a:xfrm>
          </p:grpSpPr>
          <p:sp>
            <p:nvSpPr>
              <p:cNvPr id="259" name="Rectangle 42"/>
              <p:cNvSpPr/>
              <p:nvPr/>
            </p:nvSpPr>
            <p:spPr>
              <a:xfrm>
                <a:off x="1163520" y="2718000"/>
                <a:ext cx="143532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France YU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43"/>
              <p:cNvSpPr/>
              <p:nvPr/>
            </p:nvSpPr>
            <p:spPr>
              <a:xfrm>
                <a:off x="1066680" y="2718000"/>
                <a:ext cx="1629360" cy="41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1" name="Group 44"/>
            <p:cNvGrpSpPr/>
            <p:nvPr/>
          </p:nvGrpSpPr>
          <p:grpSpPr>
            <a:xfrm>
              <a:off x="2696400" y="2718000"/>
              <a:ext cx="1111320" cy="416880"/>
              <a:chOff x="2696400" y="2718000"/>
              <a:chExt cx="1111320" cy="416880"/>
            </a:xfrm>
          </p:grpSpPr>
          <p:sp>
            <p:nvSpPr>
              <p:cNvPr id="262" name="Rectangle 45"/>
              <p:cNvSpPr/>
              <p:nvPr/>
            </p:nvSpPr>
            <p:spPr>
              <a:xfrm>
                <a:off x="2792520" y="2718000"/>
                <a:ext cx="91800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France YU"/>
                    <a:ea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46"/>
              <p:cNvSpPr/>
              <p:nvPr/>
            </p:nvSpPr>
            <p:spPr>
              <a:xfrm>
                <a:off x="2696400" y="2718000"/>
                <a:ext cx="1111320" cy="41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4" name="Group 47"/>
            <p:cNvGrpSpPr/>
            <p:nvPr/>
          </p:nvGrpSpPr>
          <p:grpSpPr>
            <a:xfrm>
              <a:off x="3808080" y="2718000"/>
              <a:ext cx="1111320" cy="416880"/>
              <a:chOff x="3808080" y="2718000"/>
              <a:chExt cx="1111320" cy="416880"/>
            </a:xfrm>
          </p:grpSpPr>
          <p:sp>
            <p:nvSpPr>
              <p:cNvPr id="265" name="Rectangle 48"/>
              <p:cNvSpPr/>
              <p:nvPr/>
            </p:nvSpPr>
            <p:spPr>
              <a:xfrm>
                <a:off x="3904920" y="2718000"/>
                <a:ext cx="91800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France YU"/>
                    <a:ea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49"/>
              <p:cNvSpPr/>
              <p:nvPr/>
            </p:nvSpPr>
            <p:spPr>
              <a:xfrm>
                <a:off x="3808080" y="2718000"/>
                <a:ext cx="1111320" cy="41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7" name="Group 50"/>
            <p:cNvGrpSpPr/>
            <p:nvPr/>
          </p:nvGrpSpPr>
          <p:grpSpPr>
            <a:xfrm>
              <a:off x="4919760" y="2718000"/>
              <a:ext cx="1111680" cy="416880"/>
              <a:chOff x="4919760" y="2718000"/>
              <a:chExt cx="1111680" cy="416880"/>
            </a:xfrm>
          </p:grpSpPr>
          <p:sp>
            <p:nvSpPr>
              <p:cNvPr id="268" name="Rectangle 51"/>
              <p:cNvSpPr/>
              <p:nvPr/>
            </p:nvSpPr>
            <p:spPr>
              <a:xfrm>
                <a:off x="5016600" y="2718000"/>
                <a:ext cx="91764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France YU"/>
                    <a:ea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52"/>
              <p:cNvSpPr/>
              <p:nvPr/>
            </p:nvSpPr>
            <p:spPr>
              <a:xfrm>
                <a:off x="4919760" y="2718000"/>
                <a:ext cx="1111680" cy="41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Дозирање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УВЗ</a:t>
            </a:r>
            <a:r>
              <a:rPr b="0" lang="en-US" sz="4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уберитем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з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вод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знатног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рвенил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минимал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ритем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з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рвенил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к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24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т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лач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з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љуспањ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ритем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з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епе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јач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рвенил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ритац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љуспа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ритем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з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II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епе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ите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рабо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јако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ритацијо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ћаје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чењ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јак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љуште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ритем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з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III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епе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ите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јаког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пе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аво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демо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екоти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вог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пе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Биолошко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и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физиолошко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деловање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УВ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зрачења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хемијски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номен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ме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нос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поред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том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0520" indent="-29052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електрични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номен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њањ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лектрич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внотеж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том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мисијом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лектро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0520" indent="-29052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номен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луоресценциј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њањ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инетичког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том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пласирањем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лектро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д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тањ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г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0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Општи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ефекти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УВ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њ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етаболиз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њ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рој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ритроци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г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њ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рој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еукоци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муните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н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астричн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кре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њ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еналн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унк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тимулациј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ункциј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дбубрег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тимулациј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ЦНС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Н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ормализациј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ликемиј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олестерол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Терапијско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дејство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УВ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фичк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енер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пителиз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алгетск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95280" y="914400"/>
            <a:ext cx="764856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Индикације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УВЗ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-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локално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цна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улгарис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опети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ориаси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куби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уролошк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уралги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урити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y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уматолошк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генеративн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уматиза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нзглоб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уматиза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инеколошк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д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тис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меноре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скулар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рург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рпид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скуларно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лцус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рури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фтамолог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лефаритис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цх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топед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рактур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тиј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ред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ких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Електормагнетни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спектар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према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таласној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дужини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активних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електромагнетних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рака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6" name="Group 54"/>
          <p:cNvGrpSpPr/>
          <p:nvPr/>
        </p:nvGrpSpPr>
        <p:grpSpPr>
          <a:xfrm>
            <a:off x="3809880" y="1828800"/>
            <a:ext cx="4571640" cy="4648320"/>
            <a:chOff x="3809880" y="1828800"/>
            <a:chExt cx="4571640" cy="4648320"/>
          </a:xfrm>
        </p:grpSpPr>
        <p:grpSp>
          <p:nvGrpSpPr>
            <p:cNvPr id="107" name="Group 52"/>
            <p:cNvGrpSpPr/>
            <p:nvPr/>
          </p:nvGrpSpPr>
          <p:grpSpPr>
            <a:xfrm>
              <a:off x="3817080" y="1833120"/>
              <a:ext cx="4555800" cy="4638960"/>
              <a:chOff x="3817080" y="1833120"/>
              <a:chExt cx="4555800" cy="4638960"/>
            </a:xfrm>
          </p:grpSpPr>
          <p:grpSp>
            <p:nvGrpSpPr>
              <p:cNvPr id="108" name="Group 21"/>
              <p:cNvGrpSpPr/>
              <p:nvPr/>
            </p:nvGrpSpPr>
            <p:grpSpPr>
              <a:xfrm>
                <a:off x="3817080" y="1833120"/>
                <a:ext cx="2429640" cy="579600"/>
                <a:chOff x="3817080" y="1833120"/>
                <a:chExt cx="2429640" cy="579600"/>
              </a:xfrm>
            </p:grpSpPr>
            <p:sp>
              <p:nvSpPr>
                <p:cNvPr id="109" name="Rectangle 4"/>
                <p:cNvSpPr/>
                <p:nvPr/>
              </p:nvSpPr>
              <p:spPr>
                <a:xfrm>
                  <a:off x="3926160" y="1833120"/>
                  <a:ext cx="2211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France YU"/>
                      <a:ea typeface="Times New Roman"/>
                    </a:rPr>
                    <a:t>Elektromagnetni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France YU"/>
                      <a:ea typeface="Times New Roman"/>
                    </a:rPr>
                    <a:t> zraci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Rectangle 20"/>
                <p:cNvSpPr/>
                <p:nvPr/>
              </p:nvSpPr>
              <p:spPr>
                <a:xfrm>
                  <a:off x="3817080" y="1833120"/>
                  <a:ext cx="242964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" name="Group 23"/>
              <p:cNvGrpSpPr/>
              <p:nvPr/>
            </p:nvGrpSpPr>
            <p:grpSpPr>
              <a:xfrm>
                <a:off x="6247080" y="1833120"/>
                <a:ext cx="2125800" cy="579600"/>
                <a:chOff x="6247080" y="1833120"/>
                <a:chExt cx="2125800" cy="579600"/>
              </a:xfrm>
            </p:grpSpPr>
            <p:sp>
              <p:nvSpPr>
                <p:cNvPr id="112" name="Rectangle 5"/>
                <p:cNvSpPr/>
                <p:nvPr/>
              </p:nvSpPr>
              <p:spPr>
                <a:xfrm>
                  <a:off x="6356160" y="1833120"/>
                  <a:ext cx="1907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France YU"/>
                      <a:ea typeface="Times New Roman"/>
                    </a:rPr>
                    <a:t>Talasne dužine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Rectangle 22"/>
                <p:cNvSpPr/>
                <p:nvPr/>
              </p:nvSpPr>
              <p:spPr>
                <a:xfrm>
                  <a:off x="6247080" y="1833120"/>
                  <a:ext cx="21258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" name="Group 25"/>
              <p:cNvGrpSpPr/>
              <p:nvPr/>
            </p:nvGrpSpPr>
            <p:grpSpPr>
              <a:xfrm>
                <a:off x="3817080" y="2412720"/>
                <a:ext cx="2429640" cy="579960"/>
                <a:chOff x="3817080" y="2412720"/>
                <a:chExt cx="2429640" cy="579960"/>
              </a:xfrm>
            </p:grpSpPr>
            <p:sp>
              <p:nvSpPr>
                <p:cNvPr id="115" name="Rectangle 6"/>
                <p:cNvSpPr/>
                <p:nvPr/>
              </p:nvSpPr>
              <p:spPr>
                <a:xfrm>
                  <a:off x="3926160" y="2412720"/>
                  <a:ext cx="2211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Gama zrac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Rectangle 24"/>
                <p:cNvSpPr/>
                <p:nvPr/>
              </p:nvSpPr>
              <p:spPr>
                <a:xfrm>
                  <a:off x="3817080" y="2412720"/>
                  <a:ext cx="242964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" name="Group 27"/>
              <p:cNvGrpSpPr/>
              <p:nvPr/>
            </p:nvGrpSpPr>
            <p:grpSpPr>
              <a:xfrm>
                <a:off x="6247080" y="2412720"/>
                <a:ext cx="2125800" cy="579960"/>
                <a:chOff x="6247080" y="2412720"/>
                <a:chExt cx="2125800" cy="579960"/>
              </a:xfrm>
            </p:grpSpPr>
            <p:sp>
              <p:nvSpPr>
                <p:cNvPr id="118" name="Rectangle 7"/>
                <p:cNvSpPr/>
                <p:nvPr/>
              </p:nvSpPr>
              <p:spPr>
                <a:xfrm>
                  <a:off x="6356160" y="2412720"/>
                  <a:ext cx="190728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0,001 - 0,01 n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Rectangle 26"/>
                <p:cNvSpPr/>
                <p:nvPr/>
              </p:nvSpPr>
              <p:spPr>
                <a:xfrm>
                  <a:off x="6247080" y="2412720"/>
                  <a:ext cx="212580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" name="Group 29"/>
              <p:cNvGrpSpPr/>
              <p:nvPr/>
            </p:nvGrpSpPr>
            <p:grpSpPr>
              <a:xfrm>
                <a:off x="3817080" y="2993040"/>
                <a:ext cx="2429640" cy="579600"/>
                <a:chOff x="3817080" y="2993040"/>
                <a:chExt cx="2429640" cy="579600"/>
              </a:xfrm>
            </p:grpSpPr>
            <p:sp>
              <p:nvSpPr>
                <p:cNvPr id="121" name="Rectangle 8"/>
                <p:cNvSpPr/>
                <p:nvPr/>
              </p:nvSpPr>
              <p:spPr>
                <a:xfrm>
                  <a:off x="3926160" y="2993040"/>
                  <a:ext cx="2211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X zrac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Rectangle 28"/>
                <p:cNvSpPr/>
                <p:nvPr/>
              </p:nvSpPr>
              <p:spPr>
                <a:xfrm>
                  <a:off x="3817080" y="2993040"/>
                  <a:ext cx="242964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" name="Group 31"/>
              <p:cNvGrpSpPr/>
              <p:nvPr/>
            </p:nvGrpSpPr>
            <p:grpSpPr>
              <a:xfrm>
                <a:off x="6247080" y="2993040"/>
                <a:ext cx="2125800" cy="579600"/>
                <a:chOff x="6247080" y="2993040"/>
                <a:chExt cx="2125800" cy="579600"/>
              </a:xfrm>
            </p:grpSpPr>
            <p:sp>
              <p:nvSpPr>
                <p:cNvPr id="124" name="Rectangle 9"/>
                <p:cNvSpPr/>
                <p:nvPr/>
              </p:nvSpPr>
              <p:spPr>
                <a:xfrm>
                  <a:off x="6356160" y="2993040"/>
                  <a:ext cx="1907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0,01 - 10 n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Rectangle 30"/>
                <p:cNvSpPr/>
                <p:nvPr/>
              </p:nvSpPr>
              <p:spPr>
                <a:xfrm>
                  <a:off x="6247080" y="2993040"/>
                  <a:ext cx="21258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" name="Group 33"/>
              <p:cNvGrpSpPr/>
              <p:nvPr/>
            </p:nvGrpSpPr>
            <p:grpSpPr>
              <a:xfrm>
                <a:off x="3817080" y="3572640"/>
                <a:ext cx="2429640" cy="579600"/>
                <a:chOff x="3817080" y="3572640"/>
                <a:chExt cx="2429640" cy="579600"/>
              </a:xfrm>
            </p:grpSpPr>
            <p:sp>
              <p:nvSpPr>
                <p:cNvPr id="127" name="Rectangle 10"/>
                <p:cNvSpPr/>
                <p:nvPr/>
              </p:nvSpPr>
              <p:spPr>
                <a:xfrm>
                  <a:off x="3926160" y="3572640"/>
                  <a:ext cx="2211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U.V. zrac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Rectangle 32"/>
                <p:cNvSpPr/>
                <p:nvPr/>
              </p:nvSpPr>
              <p:spPr>
                <a:xfrm>
                  <a:off x="3817080" y="3572640"/>
                  <a:ext cx="242964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" name="Group 35"/>
              <p:cNvGrpSpPr/>
              <p:nvPr/>
            </p:nvGrpSpPr>
            <p:grpSpPr>
              <a:xfrm>
                <a:off x="6247080" y="3572640"/>
                <a:ext cx="2125800" cy="579600"/>
                <a:chOff x="6247080" y="3572640"/>
                <a:chExt cx="2125800" cy="579600"/>
              </a:xfrm>
            </p:grpSpPr>
            <p:sp>
              <p:nvSpPr>
                <p:cNvPr id="130" name="Rectangle 11"/>
                <p:cNvSpPr/>
                <p:nvPr/>
              </p:nvSpPr>
              <p:spPr>
                <a:xfrm>
                  <a:off x="6356160" y="3572640"/>
                  <a:ext cx="1907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10 - 380 n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" name="Rectangle 34"/>
                <p:cNvSpPr/>
                <p:nvPr/>
              </p:nvSpPr>
              <p:spPr>
                <a:xfrm>
                  <a:off x="6247080" y="3572640"/>
                  <a:ext cx="21258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" name="Group 37"/>
              <p:cNvGrpSpPr/>
              <p:nvPr/>
            </p:nvGrpSpPr>
            <p:grpSpPr>
              <a:xfrm>
                <a:off x="3817080" y="4152600"/>
                <a:ext cx="2429640" cy="579960"/>
                <a:chOff x="3817080" y="4152600"/>
                <a:chExt cx="2429640" cy="579960"/>
              </a:xfrm>
            </p:grpSpPr>
            <p:sp>
              <p:nvSpPr>
                <p:cNvPr id="133" name="Rectangle 12"/>
                <p:cNvSpPr/>
                <p:nvPr/>
              </p:nvSpPr>
              <p:spPr>
                <a:xfrm>
                  <a:off x="3926160" y="4152600"/>
                  <a:ext cx="2211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France YU"/>
                      <a:ea typeface="Times New Roman"/>
                    </a:rPr>
                    <a:t>Vidljivi zrac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Rectangle 36"/>
                <p:cNvSpPr/>
                <p:nvPr/>
              </p:nvSpPr>
              <p:spPr>
                <a:xfrm>
                  <a:off x="3817080" y="4152600"/>
                  <a:ext cx="242964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5" name="Group 39"/>
              <p:cNvGrpSpPr/>
              <p:nvPr/>
            </p:nvGrpSpPr>
            <p:grpSpPr>
              <a:xfrm>
                <a:off x="6247080" y="4152600"/>
                <a:ext cx="2125800" cy="579960"/>
                <a:chOff x="6247080" y="4152600"/>
                <a:chExt cx="2125800" cy="579960"/>
              </a:xfrm>
            </p:grpSpPr>
            <p:sp>
              <p:nvSpPr>
                <p:cNvPr id="136" name="Rectangle 13"/>
                <p:cNvSpPr/>
                <p:nvPr/>
              </p:nvSpPr>
              <p:spPr>
                <a:xfrm>
                  <a:off x="6356160" y="4152600"/>
                  <a:ext cx="190728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France YU"/>
                      <a:ea typeface="Times New Roman"/>
                    </a:rPr>
                    <a:t>380 - 760 n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Rectangle 38"/>
                <p:cNvSpPr/>
                <p:nvPr/>
              </p:nvSpPr>
              <p:spPr>
                <a:xfrm>
                  <a:off x="6247080" y="4152600"/>
                  <a:ext cx="212580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8" name="Group 41"/>
              <p:cNvGrpSpPr/>
              <p:nvPr/>
            </p:nvGrpSpPr>
            <p:grpSpPr>
              <a:xfrm>
                <a:off x="3817080" y="4732560"/>
                <a:ext cx="2429640" cy="579600"/>
                <a:chOff x="3817080" y="4732560"/>
                <a:chExt cx="2429640" cy="579600"/>
              </a:xfrm>
            </p:grpSpPr>
            <p:sp>
              <p:nvSpPr>
                <p:cNvPr id="139" name="Rectangle 14"/>
                <p:cNvSpPr/>
                <p:nvPr/>
              </p:nvSpPr>
              <p:spPr>
                <a:xfrm>
                  <a:off x="3926160" y="4732560"/>
                  <a:ext cx="2211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I.R. zrac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Rectangle 40"/>
                <p:cNvSpPr/>
                <p:nvPr/>
              </p:nvSpPr>
              <p:spPr>
                <a:xfrm>
                  <a:off x="3817080" y="4732560"/>
                  <a:ext cx="242964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1" name="Group 43"/>
              <p:cNvGrpSpPr/>
              <p:nvPr/>
            </p:nvGrpSpPr>
            <p:grpSpPr>
              <a:xfrm>
                <a:off x="6247080" y="4732560"/>
                <a:ext cx="2125800" cy="579600"/>
                <a:chOff x="6247080" y="4732560"/>
                <a:chExt cx="2125800" cy="579600"/>
              </a:xfrm>
            </p:grpSpPr>
            <p:sp>
              <p:nvSpPr>
                <p:cNvPr id="142" name="Rectangle 15"/>
                <p:cNvSpPr/>
                <p:nvPr/>
              </p:nvSpPr>
              <p:spPr>
                <a:xfrm>
                  <a:off x="6356160" y="4732560"/>
                  <a:ext cx="1907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760 nm - 1 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Rectangle 42"/>
                <p:cNvSpPr/>
                <p:nvPr/>
              </p:nvSpPr>
              <p:spPr>
                <a:xfrm>
                  <a:off x="6247080" y="4732560"/>
                  <a:ext cx="21258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4" name="Group 45"/>
              <p:cNvGrpSpPr/>
              <p:nvPr/>
            </p:nvGrpSpPr>
            <p:grpSpPr>
              <a:xfrm>
                <a:off x="3817080" y="5312520"/>
                <a:ext cx="2429640" cy="579600"/>
                <a:chOff x="3817080" y="5312520"/>
                <a:chExt cx="2429640" cy="579600"/>
              </a:xfrm>
            </p:grpSpPr>
            <p:sp>
              <p:nvSpPr>
                <p:cNvPr id="145" name="Rectangle 16"/>
                <p:cNvSpPr/>
                <p:nvPr/>
              </p:nvSpPr>
              <p:spPr>
                <a:xfrm>
                  <a:off x="3926160" y="5312520"/>
                  <a:ext cx="2211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Mikrotalas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Rectangle 44"/>
                <p:cNvSpPr/>
                <p:nvPr/>
              </p:nvSpPr>
              <p:spPr>
                <a:xfrm>
                  <a:off x="3817080" y="5312520"/>
                  <a:ext cx="242964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7" name="Group 47"/>
              <p:cNvGrpSpPr/>
              <p:nvPr/>
            </p:nvGrpSpPr>
            <p:grpSpPr>
              <a:xfrm>
                <a:off x="6247080" y="5312520"/>
                <a:ext cx="2125800" cy="579600"/>
                <a:chOff x="6247080" y="5312520"/>
                <a:chExt cx="2125800" cy="579600"/>
              </a:xfrm>
            </p:grpSpPr>
            <p:sp>
              <p:nvSpPr>
                <p:cNvPr id="148" name="Rectangle 17"/>
                <p:cNvSpPr/>
                <p:nvPr/>
              </p:nvSpPr>
              <p:spPr>
                <a:xfrm>
                  <a:off x="6356160" y="5312520"/>
                  <a:ext cx="1907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1 - 10 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Rectangle 46"/>
                <p:cNvSpPr/>
                <p:nvPr/>
              </p:nvSpPr>
              <p:spPr>
                <a:xfrm>
                  <a:off x="6247080" y="5312520"/>
                  <a:ext cx="21258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0" name="Group 49"/>
              <p:cNvGrpSpPr/>
              <p:nvPr/>
            </p:nvGrpSpPr>
            <p:grpSpPr>
              <a:xfrm>
                <a:off x="3817080" y="5892120"/>
                <a:ext cx="2429640" cy="579960"/>
                <a:chOff x="3817080" y="5892120"/>
                <a:chExt cx="2429640" cy="579960"/>
              </a:xfrm>
            </p:grpSpPr>
            <p:sp>
              <p:nvSpPr>
                <p:cNvPr id="151" name="Rectangle 18"/>
                <p:cNvSpPr/>
                <p:nvPr/>
              </p:nvSpPr>
              <p:spPr>
                <a:xfrm>
                  <a:off x="3926160" y="5892120"/>
                  <a:ext cx="2211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Radiotalas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Rectangle 48"/>
                <p:cNvSpPr/>
                <p:nvPr/>
              </p:nvSpPr>
              <p:spPr>
                <a:xfrm>
                  <a:off x="3817080" y="5892120"/>
                  <a:ext cx="242964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3" name="Group 51"/>
              <p:cNvGrpSpPr/>
              <p:nvPr/>
            </p:nvGrpSpPr>
            <p:grpSpPr>
              <a:xfrm>
                <a:off x="6247080" y="5892120"/>
                <a:ext cx="2125800" cy="579960"/>
                <a:chOff x="6247080" y="5892120"/>
                <a:chExt cx="2125800" cy="579960"/>
              </a:xfrm>
            </p:grpSpPr>
            <p:sp>
              <p:nvSpPr>
                <p:cNvPr id="154" name="Rectangle 19"/>
                <p:cNvSpPr/>
                <p:nvPr/>
              </p:nvSpPr>
              <p:spPr>
                <a:xfrm>
                  <a:off x="6356160" y="5892120"/>
                  <a:ext cx="190728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do 1 k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Rectangle 50"/>
                <p:cNvSpPr/>
                <p:nvPr/>
              </p:nvSpPr>
              <p:spPr>
                <a:xfrm>
                  <a:off x="6247080" y="5892120"/>
                  <a:ext cx="212580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56" name="Rectangle 53"/>
            <p:cNvSpPr/>
            <p:nvPr/>
          </p:nvSpPr>
          <p:spPr>
            <a:xfrm>
              <a:off x="3809880" y="1828800"/>
              <a:ext cx="4571640" cy="4648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" name="Rectangle 56"/>
          <p:cNvSpPr/>
          <p:nvPr/>
        </p:nvSpPr>
        <p:spPr>
          <a:xfrm>
            <a:off x="380520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5"/>
              <p:cNvSpPr txBox="1"/>
              <p:nvPr/>
            </p:nvSpPr>
            <p:spPr>
              <a:xfrm>
                <a:off x="0" y="2590920"/>
                <a:ext cx="350532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rzina</m:t>
                        </m:r>
                        <m:r>
                          <m:rPr>
                            <m:lit/>
                            <m:nor/>
                          </m:rPr>
                          <m:t xml:space="preserve">svetlost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lasna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Á</m:t>
                        </m:r>
                        <m:r>
                          <m:rPr>
                            <m:lit/>
                            <m:nor/>
                          </m:rPr>
                          <m:t xml:space="preserve">in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Rectangle 58"/>
          <p:cNvSpPr/>
          <p:nvPr/>
        </p:nvSpPr>
        <p:spPr>
          <a:xfrm>
            <a:off x="304920" y="388620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q(H) - 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svetlosni kvant (energij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merican Typewriter YU"/>
                <a:ea typeface="Times New Roman"/>
              </a:rPr>
              <a:t>v - frekven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h - 6,67x10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/-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Индикације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УВЗ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-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општ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оваленсцен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еопор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ло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ем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х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траиндикациј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З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БЦ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ућ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ертиреодиза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шећер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ихијатријс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ољењ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знапредовал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хекс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фотогене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коже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лагр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пу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ладеж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компензац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тал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т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нтг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рматитис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лигн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умор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ервитаминоз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Оштећења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УВ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ж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пекоти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ч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нежно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лепил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пште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теинск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ш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аштит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илтр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очар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ва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нфрацрвени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раци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2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Р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770 - 150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РБ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1500 - 300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РЦ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 преко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300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ратк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Р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 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770 - 150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уг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Р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еко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150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звори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Р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ра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3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иродни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звор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је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унце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3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ештачки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звори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01456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Лампа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ијалицом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150 - 1500 W,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чиј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у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пирал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аправљен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олфрама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ли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унгстрена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Бело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сијањ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ко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3000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Ц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митуј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ратк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к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елик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оплотн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нергиј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01456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Sollux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"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лам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01456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Грејачи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рефлектор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01456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ветлосн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уп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3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13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ефекат</a:t>
            </a:r>
            <a:r>
              <a:rPr b="0" lang="en-U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И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дор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0,5 - 10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м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псорб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ткож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кив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убљ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тављ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ки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агу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aed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в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о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окал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ш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а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ит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хомоге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ста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ма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гмент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мењ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Терапијска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дејства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И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алгет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азмолитич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фич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нул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тиедематоз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Методика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примене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ИР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зрак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ј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ч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д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0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1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на у сериј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тој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во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ч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ређ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бјектив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ћаја пацијен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гао од 90 степе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15:36:45Z</dcterms:created>
  <dc:creator>WIN98SE</dc:creator>
  <dc:description/>
  <dc:language>en-US</dc:language>
  <cp:lastModifiedBy>Info</cp:lastModifiedBy>
  <dcterms:modified xsi:type="dcterms:W3CDTF">2020-10-01T14:41:46Z</dcterms:modified>
  <cp:revision>35</cp:revision>
  <dc:subject/>
  <dc:title>Fototerapija  </dc:title>
</cp:coreProperties>
</file>